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978-A7FD-4A71-9B84-703ED056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1F9-25AC-4564-A605-EAA2FB9F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8F3-C09F-482F-A880-55B673D3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25D-765C-48DA-A266-A1C970AF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0F32-BCB4-4A62-A6BD-BA0A819C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1CA0-A4E8-48EF-9B5D-A0B5D30A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A0C9-4A62-46D2-9792-ACB22721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B493-BB98-4A4A-9DD5-C0DBDED7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A575-8B30-4909-A27C-5701350F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C909-9DD4-44CB-88E9-9624C2B9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5ED6-278E-4EDB-B42B-5EB9DED5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9FF-3C4F-4366-B15E-341D6B93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3C40-282F-4248-8F02-42288455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23DD-48BB-4A2F-89F1-190693CA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5205-8DFC-46D2-8911-0F5ACE62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C60C-12A4-4459-AEFE-DEE80B85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34BC-A3F3-44ED-BF27-138D1B88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7B5-7123-479A-AFA8-3CF0098B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451-95A3-42AF-ABBD-CC043DDA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071-FC76-48F5-A21E-E5D24D56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0F9-A1EF-4E85-879A-11477703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469-3568-4A69-8670-8810AF84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57B-EC41-4251-95A5-1627C104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977-1F77-488F-834F-54E070CC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26D5-AF50-49FC-9F22-85CC8155BB2D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B875-0F25-4202-B4E2-C7718B7F8296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00200" y="2209320"/>
            <a:ext cx="6192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6666"/>
                </a:solidFill>
                <a:latin typeface="Verdana"/>
              </a:rPr>
              <a:t>图片管理系统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53352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SqlDataSource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生成的数据库连接字符串复制到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web.config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中，然后就可以删除该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SqlDataSource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，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如下所示：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&lt;connectionStrings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&lt;add 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name="ConnectionString" 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connectionString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="Data Source=GUOJIA;Initial Catalog=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PHOTO;Integrated Security=True"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&lt;/connectionStrings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124080" y="990720"/>
            <a:ext cx="3276720" cy="1143000"/>
            <a:chOff x="3124080" y="990720"/>
            <a:chExt cx="3276720" cy="1143000"/>
          </a:xfrm>
        </p:grpSpPr>
        <p:sp>
          <p:nvSpPr>
            <p:cNvPr id="248" name=""/>
            <p:cNvSpPr/>
            <p:nvPr/>
          </p:nvSpPr>
          <p:spPr>
            <a:xfrm>
              <a:off x="4952880" y="990720"/>
              <a:ext cx="99072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990720"/>
              <a:ext cx="3276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04920" y="533520"/>
            <a:ext cx="8534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为了代码重用，为了体现分层思想，我们将数据库连接代码写在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SqlHelper.cs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公共类中，将数据库操作代码写在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DB.cs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公共类中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SqlHelper.cs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中：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、右击站点—添加引用—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.NET—System.Configu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、代码中添加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using System.Data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using System.Data.SqlClien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93600"/>
            <a:ext cx="8534520" cy="69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SqlHelper.cs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代码如下：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public class SqlHelpe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{</a:t>
            </a:r>
            <a:r>
              <a:rPr b="0" lang="zh-CN" sz="1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private static readonly string ConnectionString = </a:t>
            </a:r>
            <a:r>
              <a:rPr b="0" lang="zh-CN" sz="1800" spc="-1" strike="noStrike">
                <a:solidFill>
                  <a:srgbClr val="0066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ConfigurationManager.ConnectionStrings["ConnectionString"].ConnectionString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SqlConnection conn = new SqlConnection(ConnectionString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public SqlCommand GetCommand(string sqlStr, params SqlParameter[] cmdparms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{</a:t>
            </a:r>
            <a:r>
              <a:rPr b="0" lang="zh-CN" sz="1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SqlCommand cmd = new SqlCommand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cmd.Connection = conn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cmd.CommandText = sqlStr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cmd.CommandType = CommandType.Tex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if (cmdparms != null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foreach (SqlParameter p in cmdparms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cmd.Parameters.Add(p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return cmd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}              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public SqlHelper(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{</a:t>
            </a:r>
            <a:r>
              <a:rPr b="0" lang="zh-CN" sz="1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conn.Open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93600"/>
            <a:ext cx="853452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DB.cs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代码（首先引用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using System.Data.SqlClient;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public class DB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public DB(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/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// TODO: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在此处添加构造函数逻辑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/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//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在首页上显示所有专辑信息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public DataTable GetAll(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SqlHelper helper = new SqlHelper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string strsql = "select * from album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SqlCommand cmd = new SqlCommand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cmd = helper.GetCommand(strsql,null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DataTable dt = new DataTabl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using (SqlDataReader rdr = cmd.ExecuteReader()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dt.Load(rdr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return d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30492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//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在首页上按名称查询专辑信息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public DataTable GetByID(</a:t>
            </a:r>
            <a:r>
              <a:rPr b="0" sz="1800" spc="-1" strike="noStrike">
                <a:solidFill>
                  <a:srgbClr val="006699"/>
                </a:solidFill>
                <a:latin typeface="Verdana"/>
              </a:rPr>
              <a:t>int id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SqlHelper helper = new SqlHelper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string strsql = "select * from album where albumID=@albumID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SqlParameter[] parm = new SqlParameter[]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new SqlParameter("@albumID",id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SqlCommand cmd = new SqlCommand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cmd = helper.GetCommand(strsql, parm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DataTable dt = new DataTabl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using (SqlDataReader rdr = cmd.ExecuteReader()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dt.Load(rdr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return d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04920" y="1522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//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为首页的专辑名称下拉菜单绑定名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public DataTable GetAlbumName(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qlHelper helper = new SqlHelper(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tring strsql = "select albumID,albumName from album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qlCommand cmd = new SqlCommand(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cmd = helper.GetCommand(strsql, null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DataTable dt = new DataTable(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using (SqlDataReader rdr = cmd.ExecuteReader()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dt.Load(rdr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return d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3520" y="3049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SqlHelper.cs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DB.cs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两个公共类写好后，右击站点，生成网站，检查是否生成成功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如果生成成功，做如下操作：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04920" y="1905120"/>
            <a:ext cx="8305200" cy="4266720"/>
            <a:chOff x="304920" y="1905120"/>
            <a:chExt cx="8305200" cy="426672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rcRect l="0" t="0" r="47501" b="54720"/>
            <a:stretch/>
          </p:blipFill>
          <p:spPr>
            <a:xfrm>
              <a:off x="304920" y="1905120"/>
              <a:ext cx="8305200" cy="42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5233320" y="3874320"/>
              <a:ext cx="2646720" cy="152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343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4920" y="841320"/>
            <a:ext cx="85341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80880" y="887400"/>
            <a:ext cx="84582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需求分析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295280"/>
            <a:ext cx="8763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创建专辑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修改专辑封皮图片及简介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删除专辑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按名称查询专辑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为专辑添加图片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浏览专辑图片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删除选中图片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修改图片简介及所属专辑名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分页查询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04920" y="841320"/>
            <a:ext cx="84582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887400"/>
            <a:ext cx="83059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370240" y="762120"/>
            <a:ext cx="373536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rcRect l="0" t="0" r="51250" b="44205"/>
          <a:stretch/>
        </p:blipFill>
        <p:spPr>
          <a:xfrm>
            <a:off x="2286000" y="2714760"/>
            <a:ext cx="6172200" cy="4093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28600" y="152280"/>
            <a:ext cx="87631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利用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GridView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显示专辑信息，用上述方法新建数据源—对象，与上述方法中不同的是，选择的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DB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方法不同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注意：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GridView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的属性设置：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AllowPaging=True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AutoGenerateColumns=False,DataKeyNames=albumID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PageSize=2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05760" cy="49165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8088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利用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GridView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显示专辑信息，用上述方法新建数据源—对象，与上述方法中不同的是，选择的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DB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方法不同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6400800" cy="4075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95400"/>
            <a:ext cx="8534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GridView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编辑列，如下所示：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BoundField: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专辑编号、专辑名称、专辑创建时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TemplateField: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专辑封面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HyperLinkField: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为专辑添加图片、浏览专辑图片、修改专辑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CommandField: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删除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52280" y="152280"/>
            <a:ext cx="8534520" cy="6400800"/>
            <a:chOff x="152280" y="152280"/>
            <a:chExt cx="8534520" cy="6400800"/>
          </a:xfrm>
        </p:grpSpPr>
        <p:grpSp>
          <p:nvGrpSpPr>
            <p:cNvPr id="272" name=""/>
            <p:cNvGrpSpPr/>
            <p:nvPr/>
          </p:nvGrpSpPr>
          <p:grpSpPr>
            <a:xfrm>
              <a:off x="152280" y="152280"/>
              <a:ext cx="8534520" cy="6400800"/>
              <a:chOff x="152280" y="152280"/>
              <a:chExt cx="8534520" cy="640080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"/>
              <a:srcRect l="0" t="0" r="30002" b="28840"/>
              <a:stretch/>
            </p:blipFill>
            <p:spPr>
              <a:xfrm>
                <a:off x="152280" y="1523880"/>
                <a:ext cx="8534520" cy="502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6400" y="152280"/>
                <a:ext cx="2957400" cy="344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5" name=""/>
            <p:cNvSpPr/>
            <p:nvPr/>
          </p:nvSpPr>
          <p:spPr>
            <a:xfrm>
              <a:off x="5410080" y="3276720"/>
              <a:ext cx="99072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52280" y="135000"/>
            <a:ext cx="8839080" cy="6043320"/>
            <a:chOff x="152280" y="135000"/>
            <a:chExt cx="8839080" cy="6043320"/>
          </a:xfrm>
        </p:grpSpPr>
        <p:grpSp>
          <p:nvGrpSpPr>
            <p:cNvPr id="277" name=""/>
            <p:cNvGrpSpPr/>
            <p:nvPr/>
          </p:nvGrpSpPr>
          <p:grpSpPr>
            <a:xfrm>
              <a:off x="152280" y="135000"/>
              <a:ext cx="8839080" cy="6043320"/>
              <a:chOff x="152280" y="135000"/>
              <a:chExt cx="8839080" cy="604332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914040" y="2801880"/>
                <a:ext cx="8076960" cy="2210040"/>
                <a:chOff x="914040" y="2801880"/>
                <a:chExt cx="8076960" cy="2210040"/>
              </a:xfrm>
            </p:grpSpPr>
            <p:pic>
              <p:nvPicPr>
                <p:cNvPr id="27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71840" y="2801880"/>
                  <a:ext cx="2819160" cy="116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 flipV="1">
                  <a:off x="914040" y="4097520"/>
                  <a:ext cx="2590560" cy="9144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52280" y="135000"/>
                <a:ext cx="8839080" cy="6043320"/>
                <a:chOff x="152280" y="135000"/>
                <a:chExt cx="8839080" cy="6043320"/>
              </a:xfrm>
            </p:grpSpPr>
            <p:pic>
              <p:nvPicPr>
                <p:cNvPr id="282" name="" descr=""/>
                <p:cNvPicPr/>
                <p:nvPr/>
              </p:nvPicPr>
              <p:blipFill>
                <a:blip r:embed="rId2"/>
                <a:srcRect l="0" t="0" r="60627" b="43130"/>
                <a:stretch/>
              </p:blipFill>
              <p:spPr>
                <a:xfrm>
                  <a:off x="152280" y="135000"/>
                  <a:ext cx="6019920" cy="504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>
                  <a:off x="4038480" y="4097520"/>
                  <a:ext cx="1981080" cy="16002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019560" y="5392800"/>
                  <a:ext cx="297180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99"/>
                      </a:solidFill>
                      <a:latin typeface="Verdana"/>
                    </a:rPr>
                    <a:t>Height:100px</a:t>
                  </a: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6699"/>
                      </a:solidFill>
                      <a:latin typeface="Verdana"/>
                    </a:rPr>
                    <a:t>width:100px</a:t>
                  </a: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5" name="" descr=""/>
            <p:cNvPicPr/>
            <p:nvPr/>
          </p:nvPicPr>
          <p:blipFill>
            <a:blip r:embed="rId3"/>
            <a:stretch/>
          </p:blipFill>
          <p:spPr>
            <a:xfrm>
              <a:off x="4343400" y="3429000"/>
              <a:ext cx="190512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114800" y="3352680"/>
              <a:ext cx="2057400" cy="838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695680" cy="7192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228600" y="1209600"/>
            <a:ext cx="8534520" cy="4361040"/>
            <a:chOff x="228600" y="1209600"/>
            <a:chExt cx="8534520" cy="4361040"/>
          </a:xfrm>
        </p:grpSpPr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228600" y="1209600"/>
              <a:ext cx="8534520" cy="43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581280" y="4419720"/>
              <a:ext cx="1905120" cy="761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304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注意检查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GridView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的属性设置：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AllowPaging=“True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AutoGenerateColumns=“False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DataKeyNames=“albumID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PageSize=“2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18751" t="17250" r="11874" b="29518"/>
          <a:stretch/>
        </p:blipFill>
        <p:spPr>
          <a:xfrm>
            <a:off x="228600" y="2286000"/>
            <a:ext cx="89154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380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用力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371600" y="609480"/>
            <a:ext cx="5942880" cy="5715000"/>
            <a:chOff x="1371600" y="609480"/>
            <a:chExt cx="5942880" cy="5715000"/>
          </a:xfrm>
        </p:grpSpPr>
        <p:grpSp>
          <p:nvGrpSpPr>
            <p:cNvPr id="172" name=""/>
            <p:cNvGrpSpPr/>
            <p:nvPr/>
          </p:nvGrpSpPr>
          <p:grpSpPr>
            <a:xfrm>
              <a:off x="1371600" y="2438280"/>
              <a:ext cx="531720" cy="838080"/>
              <a:chOff x="1371600" y="2438280"/>
              <a:chExt cx="531720" cy="838080"/>
            </a:xfrm>
          </p:grpSpPr>
          <p:sp>
            <p:nvSpPr>
              <p:cNvPr id="173" name=""/>
              <p:cNvSpPr/>
              <p:nvPr/>
            </p:nvSpPr>
            <p:spPr>
              <a:xfrm>
                <a:off x="1459800" y="2438280"/>
                <a:ext cx="354600" cy="304920"/>
              </a:xfrm>
              <a:prstGeom prst="ellipse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37280" y="2743200"/>
                <a:ext cx="0" cy="3045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71600" y="2895480"/>
                <a:ext cx="53172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371600" y="2971800"/>
                <a:ext cx="265680" cy="3045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37280" y="2971800"/>
                <a:ext cx="265680" cy="3045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 flipV="1">
              <a:off x="1992240" y="1447200"/>
              <a:ext cx="798120" cy="1143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702160" y="609480"/>
              <a:ext cx="1950840" cy="990720"/>
              <a:chOff x="2702160" y="609480"/>
              <a:chExt cx="1950840" cy="990720"/>
            </a:xfrm>
          </p:grpSpPr>
          <p:sp>
            <p:nvSpPr>
              <p:cNvPr id="180" name=""/>
              <p:cNvSpPr/>
              <p:nvPr/>
            </p:nvSpPr>
            <p:spPr>
              <a:xfrm>
                <a:off x="2702160" y="1066680"/>
                <a:ext cx="1596600" cy="533520"/>
              </a:xfrm>
              <a:prstGeom prst="ellipse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90360" y="609480"/>
                <a:ext cx="18626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99"/>
                    </a:solidFill>
                    <a:latin typeface="Verdana"/>
                  </a:rPr>
                  <a:t>创建专辑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V="1">
              <a:off x="1992240" y="2590200"/>
              <a:ext cx="798120" cy="2286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790720" y="1828800"/>
              <a:ext cx="1951200" cy="990000"/>
              <a:chOff x="2790720" y="1828800"/>
              <a:chExt cx="1951200" cy="990000"/>
            </a:xfrm>
          </p:grpSpPr>
          <p:sp>
            <p:nvSpPr>
              <p:cNvPr id="184" name=""/>
              <p:cNvSpPr/>
              <p:nvPr/>
            </p:nvSpPr>
            <p:spPr>
              <a:xfrm>
                <a:off x="2790720" y="2285640"/>
                <a:ext cx="1596600" cy="533160"/>
              </a:xfrm>
              <a:prstGeom prst="ellipse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878920" y="1828800"/>
                <a:ext cx="18630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99"/>
                    </a:solidFill>
                    <a:latin typeface="Verdana"/>
                  </a:rPr>
                  <a:t>修改专辑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92240" y="3047760"/>
              <a:ext cx="709920" cy="2286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702160" y="2971800"/>
              <a:ext cx="2039760" cy="914400"/>
              <a:chOff x="2702160" y="2971800"/>
              <a:chExt cx="2039760" cy="914400"/>
            </a:xfrm>
          </p:grpSpPr>
          <p:sp>
            <p:nvSpPr>
              <p:cNvPr id="188" name=""/>
              <p:cNvSpPr/>
              <p:nvPr/>
            </p:nvSpPr>
            <p:spPr>
              <a:xfrm>
                <a:off x="2702160" y="2971800"/>
                <a:ext cx="1596600" cy="533160"/>
              </a:xfrm>
              <a:prstGeom prst="ellipse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879280" y="3352680"/>
                <a:ext cx="18626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99"/>
                    </a:solidFill>
                    <a:latin typeface="Verdana"/>
                  </a:rPr>
                  <a:t>删除专辑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992240" y="3200400"/>
              <a:ext cx="621000" cy="1143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524320" y="4190760"/>
              <a:ext cx="2040120" cy="914400"/>
              <a:chOff x="2524320" y="4190760"/>
              <a:chExt cx="2040120" cy="914400"/>
            </a:xfrm>
          </p:grpSpPr>
          <p:sp>
            <p:nvSpPr>
              <p:cNvPr id="192" name=""/>
              <p:cNvSpPr/>
              <p:nvPr/>
            </p:nvSpPr>
            <p:spPr>
              <a:xfrm>
                <a:off x="2524320" y="4190760"/>
                <a:ext cx="1596960" cy="533160"/>
              </a:xfrm>
              <a:prstGeom prst="ellipse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01440" y="4571640"/>
                <a:ext cx="18630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99"/>
                    </a:solidFill>
                    <a:latin typeface="Verdana"/>
                  </a:rPr>
                  <a:t>查询专辑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V="1">
              <a:off x="4032720" y="3504600"/>
              <a:ext cx="1241640" cy="83844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121280" y="4190400"/>
              <a:ext cx="1153080" cy="30492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21280" y="4572000"/>
              <a:ext cx="1153080" cy="22860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32720" y="4647960"/>
              <a:ext cx="1152720" cy="83844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097240" y="2590560"/>
              <a:ext cx="1950840" cy="990720"/>
              <a:chOff x="5097240" y="2590560"/>
              <a:chExt cx="1950840" cy="990720"/>
            </a:xfrm>
          </p:grpSpPr>
          <p:sp>
            <p:nvSpPr>
              <p:cNvPr id="199" name=""/>
              <p:cNvSpPr/>
              <p:nvPr/>
            </p:nvSpPr>
            <p:spPr>
              <a:xfrm>
                <a:off x="5097240" y="3047760"/>
                <a:ext cx="1596600" cy="533520"/>
              </a:xfrm>
              <a:prstGeom prst="ellipse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85440" y="2590560"/>
                <a:ext cx="18626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99"/>
                    </a:solidFill>
                    <a:latin typeface="Verdana"/>
                  </a:rPr>
                  <a:t>添加图片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274720" y="3504960"/>
              <a:ext cx="1951200" cy="990720"/>
              <a:chOff x="5274720" y="3504960"/>
              <a:chExt cx="1951200" cy="990720"/>
            </a:xfrm>
          </p:grpSpPr>
          <p:sp>
            <p:nvSpPr>
              <p:cNvPr id="202" name=""/>
              <p:cNvSpPr/>
              <p:nvPr/>
            </p:nvSpPr>
            <p:spPr>
              <a:xfrm>
                <a:off x="5274720" y="3962160"/>
                <a:ext cx="1596600" cy="533520"/>
              </a:xfrm>
              <a:prstGeom prst="ellipse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62920" y="3504960"/>
                <a:ext cx="18630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99"/>
                    </a:solidFill>
                    <a:latin typeface="Verdana"/>
                  </a:rPr>
                  <a:t>浏览图片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274720" y="4572000"/>
              <a:ext cx="2039760" cy="914400"/>
              <a:chOff x="5274720" y="4572000"/>
              <a:chExt cx="2039760" cy="914400"/>
            </a:xfrm>
          </p:grpSpPr>
          <p:sp>
            <p:nvSpPr>
              <p:cNvPr id="205" name=""/>
              <p:cNvSpPr/>
              <p:nvPr/>
            </p:nvSpPr>
            <p:spPr>
              <a:xfrm>
                <a:off x="5274720" y="4572000"/>
                <a:ext cx="1596600" cy="533160"/>
              </a:xfrm>
              <a:prstGeom prst="ellipse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51840" y="4952880"/>
                <a:ext cx="18626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99"/>
                    </a:solidFill>
                    <a:latin typeface="Verdana"/>
                  </a:rPr>
                  <a:t>删除图片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008680" y="5410080"/>
              <a:ext cx="2039760" cy="914400"/>
              <a:chOff x="5008680" y="5410080"/>
              <a:chExt cx="2039760" cy="914400"/>
            </a:xfrm>
          </p:grpSpPr>
          <p:sp>
            <p:nvSpPr>
              <p:cNvPr id="208" name=""/>
              <p:cNvSpPr/>
              <p:nvPr/>
            </p:nvSpPr>
            <p:spPr>
              <a:xfrm>
                <a:off x="5008680" y="5410080"/>
                <a:ext cx="1596600" cy="533160"/>
              </a:xfrm>
              <a:prstGeom prst="ellipse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85800" y="5790960"/>
                <a:ext cx="18626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99"/>
                    </a:solidFill>
                    <a:latin typeface="Verdana"/>
                  </a:rPr>
                  <a:t>修改图片</a:t>
                </a: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18751" t="17658" r="11874" b="28035"/>
          <a:stretch/>
        </p:blipFill>
        <p:spPr>
          <a:xfrm>
            <a:off x="228600" y="1066680"/>
            <a:ext cx="8763120" cy="4500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04920" y="228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增加查询按钮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1143000"/>
            <a:ext cx="53316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新建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ObjectDataSource,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配置数据源，选择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DB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中的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GetByI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09480" y="1371600"/>
            <a:ext cx="8105760" cy="4916520"/>
            <a:chOff x="609480" y="1371600"/>
            <a:chExt cx="8105760" cy="491652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609480" y="1371600"/>
              <a:ext cx="8105760" cy="49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572000" y="2971800"/>
              <a:ext cx="304812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3657600"/>
              <a:ext cx="13716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28600" y="4572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双击查询按钮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buttton1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，进入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Default.aspx.cs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代码中编辑：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protected void Button1_Click(object sender, EventArgs e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GridView1.DataSourceID = ObjectDataSource3.ID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GridView1.DataBind(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624816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对于”创建专辑”按钮按下后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应该打开新的窗体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AddAlbum.aspx,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实现专辑名称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专辑封面图片和专辑简介信息的添加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如下图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64767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117360"/>
            <a:ext cx="8534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DB.cs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中继续添加功能块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实现添加专辑信息的功能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public void AddAlbum(string albumName, DateTime albumTime, 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tring logoUrl, string albumDesc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qlHelper helper = new SqlHelper(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tring strsql = "insert into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album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                   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(albumName,albumTime,logoUrl,albumDesc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                   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values(@name,@time,@logourl,@desc)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qlParameter[] parm = new SqlParameter[]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new SqlParameter("@name",albumName)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new SqlParameter("@time",albumTime)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new SqlParameter("@logourl",logoUrl)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new SqlParameter("@desc",albumDesc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sz="24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qlCommand cmd = helper.GetCommand(strsql, parm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cmd.ExecuteNonQuery(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sz="24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rcRect l="0" t="0" r="14121" b="-551"/>
          <a:stretch/>
        </p:blipFill>
        <p:spPr>
          <a:xfrm>
            <a:off x="457200" y="1295280"/>
            <a:ext cx="5562720" cy="4572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049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双击”提交”按钮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将专辑信息添加到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album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数据表中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228600"/>
            <a:ext cx="8534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protected void Button1_Click(object sender, EventArgs e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DB db = new DB(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tring albumName = TextBox1.Tex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DateTime albumTime = DateTime.Now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tring logourl = "image/" + FileUpload1.FileName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tring exname = FileUpload1.FileName.Split('.')[1]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string albumDesc = TextBox2.Tex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if (exname.ToLower() == "jpg" || exname.ToLower() == "gif" 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|| exname.ToLower() == "png"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FileUpload1.SaveAs(Server.MapPath(logourl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db.AddAlbum(albumName, albumTime, logourl, albumDesc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Response.Write("&lt;script&gt;alert('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创建专辑成功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'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                                     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location.href='default.aspx';&lt;/script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669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457200" y="380880"/>
            <a:ext cx="7619760" cy="6095880"/>
            <a:chOff x="457200" y="380880"/>
            <a:chExt cx="7619760" cy="6095880"/>
          </a:xfrm>
        </p:grpSpPr>
        <p:sp>
          <p:nvSpPr>
            <p:cNvPr id="211" name=""/>
            <p:cNvSpPr/>
            <p:nvPr/>
          </p:nvSpPr>
          <p:spPr>
            <a:xfrm>
              <a:off x="457200" y="1981080"/>
              <a:ext cx="2428200" cy="533160"/>
            </a:xfrm>
            <a:prstGeom prst="flowChartPredefinedProcess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图片管理系统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85400" y="2285640"/>
              <a:ext cx="25092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36320" y="685440"/>
              <a:ext cx="0" cy="35053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6320" y="685440"/>
              <a:ext cx="5022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6320" y="1828440"/>
              <a:ext cx="5022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36320" y="2971440"/>
              <a:ext cx="5022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36320" y="4190760"/>
              <a:ext cx="5022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38880" y="380880"/>
              <a:ext cx="1674720" cy="533160"/>
            </a:xfrm>
            <a:prstGeom prst="flowChartPredefinedProcess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创建专辑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8880" y="1523880"/>
              <a:ext cx="1674720" cy="533160"/>
            </a:xfrm>
            <a:prstGeom prst="flowChartPredefinedProcess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修改专辑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38880" y="2666880"/>
              <a:ext cx="1674720" cy="533160"/>
            </a:xfrm>
            <a:prstGeom prst="flowChartPredefinedProcess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删除专辑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38880" y="3962160"/>
              <a:ext cx="1674720" cy="533520"/>
            </a:xfrm>
            <a:prstGeom prst="flowChartPredefinedProcess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查询专辑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16160" y="2742840"/>
              <a:ext cx="0" cy="35053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16160" y="2742840"/>
              <a:ext cx="5022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6160" y="3885840"/>
              <a:ext cx="5022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16160" y="5028840"/>
              <a:ext cx="5022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16160" y="6248160"/>
              <a:ext cx="5022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18720" y="2438280"/>
              <a:ext cx="1674360" cy="533160"/>
            </a:xfrm>
            <a:prstGeom prst="flowChartPredefinedProcess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添加图片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18720" y="3581280"/>
              <a:ext cx="1674360" cy="533160"/>
            </a:xfrm>
            <a:prstGeom prst="flowChartPredefinedProcess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浏览图片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18720" y="4724280"/>
              <a:ext cx="1674360" cy="533160"/>
            </a:xfrm>
            <a:prstGeom prst="flowChartPredefinedProcess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删除图片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02240" y="5943240"/>
              <a:ext cx="1674720" cy="533520"/>
            </a:xfrm>
            <a:prstGeom prst="flowChartPredefinedProcess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99"/>
                  </a:solidFill>
                  <a:latin typeface="Verdana"/>
                </a:rPr>
                <a:t>修改图片</a:t>
              </a: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13960" y="4267080"/>
              <a:ext cx="5022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943600" y="2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功能结构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2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数据表设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80880" y="914400"/>
          <a:ext cx="8534520" cy="3695760"/>
        </p:xfrm>
        <a:graphic>
          <a:graphicData uri="http://schemas.openxmlformats.org/drawingml/2006/table">
            <a:tbl>
              <a:tblPr/>
              <a:tblGrid>
                <a:gridCol w="1760760"/>
                <a:gridCol w="1211040"/>
                <a:gridCol w="2813040"/>
                <a:gridCol w="1073160"/>
                <a:gridCol w="16765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表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album</a:t>
                      </a:r>
                      <a:r>
                        <a:rPr b="1" lang="zh-CN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（专辑表）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列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描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数据类型（精度范围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空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约束条件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album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专辑编号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K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（自增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albumNa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专辑名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varchar(50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albumTi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创建时间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dateti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logoUr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图片地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varchar(100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albumDesc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专辑简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Varchar(100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066680"/>
          <a:ext cx="8763120" cy="5162760"/>
        </p:xfrm>
        <a:graphic>
          <a:graphicData uri="http://schemas.openxmlformats.org/drawingml/2006/table">
            <a:tbl>
              <a:tblPr/>
              <a:tblGrid>
                <a:gridCol w="1523880"/>
                <a:gridCol w="1752840"/>
                <a:gridCol w="2752560"/>
                <a:gridCol w="1093680"/>
                <a:gridCol w="1640160"/>
              </a:tblGrid>
              <a:tr h="63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表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mage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（图片表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列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描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数据类型（精度范围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空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约束条件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mage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图片编号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K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（自增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mageNa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图片名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varchar(50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mageUr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图片地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varchar(50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mageTi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添加时间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datetim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mageDesc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图片简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varchar(100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album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所属专辑编号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非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304920" y="380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数据表设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457200" y="1066680"/>
          <a:ext cx="8305920" cy="5500800"/>
        </p:xfrm>
        <a:graphic>
          <a:graphicData uri="http://schemas.openxmlformats.org/drawingml/2006/table">
            <a:tbl>
              <a:tblPr/>
              <a:tblGrid>
                <a:gridCol w="1752480"/>
                <a:gridCol w="6553440"/>
              </a:tblGrid>
              <a:tr h="621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模块类别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功能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创建专辑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创建专辑名称，添加封面图片、添加专辑简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修改专辑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修改专辑封面图片和简介信息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删除专辑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删除专辑信息包括专辑中图片信息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查询专辑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按专辑名称查询或分页查询</a:t>
                      </a: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浏览专辑编号、专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辑名称、专辑封面图片、专辑简介等信息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添加图片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上传图片及图片简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查询图片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显示图片的名称、地址、上传时间、简介、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所属专辑名以及图片本身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修改图片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修改图片的简介信息及所属的专辑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删除图片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删除图片相关信息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380880" y="380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系统模块划分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2438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Verdana"/>
              </a:rPr>
              <a:t>开发步骤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、文件—新建网站，在站点下新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建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App_Code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和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App_Da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文件夹；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、将数据库文件及数据库日志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件，存放在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App_Data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中；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、右击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App_Code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，添加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项，添加类文件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SqlHelper.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和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DB.cs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；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、右击站点—添加配置文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web.confi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、添加两个文件夹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image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logo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分别存放图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79835" t="12670" r="0" b="28035"/>
          <a:stretch/>
        </p:blipFill>
        <p:spPr>
          <a:xfrm>
            <a:off x="5486400" y="914400"/>
            <a:ext cx="3352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67520" cy="4286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181480" y="1876320"/>
            <a:ext cx="3638520" cy="49816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09480" y="2971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利用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SqlDataSource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生成数据库连接字符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590920" y="2209320"/>
            <a:ext cx="0" cy="8384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o jia</cp:lastModifiedBy>
  <dcterms:modified xsi:type="dcterms:W3CDTF">2009-02-24T14:47:24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