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10D2-56B8-4797-B219-5DE57236A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3A4B-8198-4B80-B91F-2CA21E86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FBAD-DBF2-4CF8-B352-7B6B7607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430B-D4EC-421D-9A6B-BF496C828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705E-0189-4690-9CF5-69289F26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80EB-9408-46A8-9B48-7FEEB8A2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C819-8ADB-444F-BBD9-73C466E8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6100-A36B-45B1-AC3F-10AC0CDE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C3AE-2B51-4EA2-B3E1-4D5AC5F1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A648-5108-422D-B4CE-336EF84C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F68C-2B3F-4493-B838-5860801F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8251-2D37-49FF-833A-86A56B9C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C44A-379D-44A0-80E9-E878D75F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3C6D-2856-47C0-912B-F16B782C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3F4E-682F-4FAB-8B6B-DCF636D0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C64B-F718-4B00-A906-A89FE59D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3BCF-5494-45A0-9248-C39913F51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5C4B-9171-4D10-99B8-FE8FCE1E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8058-8622-4A64-8277-1ABAE167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36D2-FD75-433D-83AD-A964C97A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836D-BA21-4D98-A757-11AF14F2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7A7D-4B73-4088-801F-6E0B44C2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433E-1624-4B0B-A5E1-83921281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0150-B55C-4BC8-B638-90EEB3A3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D53B-6E8B-418D-8C72-ADE9617765C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81F3-CEA2-4A39-A81F-C281479DEC09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51aspx.com/CV/XuankeDoc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8200" y="2133360"/>
            <a:ext cx="693432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  <a:ea typeface="黑体"/>
              </a:rPr>
              <a:t>南昌大学选课系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5048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姓  名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导  师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专  业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源码下载及讨论地址：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http://www.51aspx.com/CV/XuankeDo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62520" y="762120"/>
            <a:ext cx="119988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3 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系统的功能介绍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.1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登录页面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2743200"/>
            <a:ext cx="526752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60879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3.2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查看必修课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52671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8580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3.3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查看选修课程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26752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3.4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查看已选课程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2671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3.5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设置选课时间段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2675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3.6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录入学生和教师信息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26716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3.7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录入教学楼教室信息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52671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3.8 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教师信息管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52671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3.8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开设课程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267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3.9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课程时间地点编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2671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毕业设计提纲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3832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引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系统的设计与实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系统的功能介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总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4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总结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选课系统的核心就是数据库，根据数据库需求分析中的结果建立了选课系统需要的数据库，所有的学生信息及选课信息都存放在数据库中，后面所有的操作本质上都是在对数据库进行操作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308760" y="243828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ahoma"/>
              </a:rPr>
              <a:t>谢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08480" y="4419720"/>
            <a:ext cx="58345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源码下载及讨论地址：</a:t>
            </a:r>
            <a:r>
              <a:rPr b="0" lang="zh-CN" sz="1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51aspx.com/CV/Xuanke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引言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.1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课题简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在线选课系统是学校教务领域中的一个重要系统，涉及教师开课和学生选课的双向交互关系。该系统基于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SQL Server 2000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构建，采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Visual Studio.NET2003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作为开发工具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1.2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课题研究的目的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选课系统主要目的就是利用网络实现教师开课的网络化，学生选课的网络化，教师评定学生成绩的网络化等，提高教师和学生的效率，降低管理的成本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2 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系统的设计与实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.1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系统分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在本系统中，有三类用户：系统管理员，教师和学生。三种不同的用户所具有的操作权限以及操作内容均不一样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2.2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系统总体设计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4227480" y="223668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46640" y="1905120"/>
            <a:ext cx="15714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用户登录身份验证模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2975040"/>
            <a:ext cx="381240" cy="15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设置选课时间模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2965320"/>
            <a:ext cx="380880" cy="15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录入信息模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24240" y="2984400"/>
            <a:ext cx="38088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开设课程模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33880" y="2986200"/>
            <a:ext cx="382680" cy="151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编辑程序时间地点模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19840" y="2984400"/>
            <a:ext cx="38088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评分模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2965320"/>
            <a:ext cx="381240" cy="14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查看课程模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19840" y="3022560"/>
            <a:ext cx="381240" cy="14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选课和锁定模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03520" y="2598840"/>
            <a:ext cx="5267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22600" y="259884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22520" y="2608200"/>
            <a:ext cx="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32320" y="26082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13160" y="26082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99120" y="260820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18120" y="259884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42240" y="260820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3800" y="4881600"/>
            <a:ext cx="5381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12880" y="452124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41600" y="452124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22600" y="44928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32240" y="451152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18200" y="450216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055920" y="4464000"/>
            <a:ext cx="972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37280" y="452124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6095880"/>
            <a:ext cx="9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据库模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51480" y="48816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5257800"/>
            <a:ext cx="72216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访问模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19720" y="5715000"/>
            <a:ext cx="0" cy="35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572000" y="5715000"/>
            <a:ext cx="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4197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2.3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数据库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设计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914400" y="2362320"/>
            <a:ext cx="7162560" cy="3200040"/>
            <a:chOff x="914400" y="2362320"/>
            <a:chExt cx="7162560" cy="3200040"/>
          </a:xfrm>
        </p:grpSpPr>
        <p:sp>
          <p:nvSpPr>
            <p:cNvPr id="144" name=""/>
            <p:cNvSpPr/>
            <p:nvPr/>
          </p:nvSpPr>
          <p:spPr>
            <a:xfrm flipV="1">
              <a:off x="7111080" y="2686680"/>
              <a:ext cx="127080" cy="1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914400" y="2362320"/>
              <a:ext cx="7162560" cy="3200040"/>
              <a:chOff x="914400" y="2362320"/>
              <a:chExt cx="7162560" cy="3200040"/>
            </a:xfrm>
          </p:grpSpPr>
          <p:sp>
            <p:nvSpPr>
              <p:cNvPr id="146" name=""/>
              <p:cNvSpPr/>
              <p:nvPr/>
            </p:nvSpPr>
            <p:spPr>
              <a:xfrm>
                <a:off x="914400" y="2473200"/>
                <a:ext cx="800640" cy="390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</a:rPr>
                  <a:t>教师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830240" y="2458080"/>
                <a:ext cx="303120" cy="480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726920" y="2683800"/>
                <a:ext cx="1904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069640" y="2683800"/>
                <a:ext cx="2286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311920" y="2362320"/>
                <a:ext cx="976680" cy="63000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</a:rPr>
                  <a:t>开设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430440" y="2458080"/>
                <a:ext cx="302760" cy="480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101840" y="2473200"/>
                <a:ext cx="800640" cy="390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</a:rPr>
                  <a:t>课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651640" y="2406960"/>
                <a:ext cx="976680" cy="63000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</a:rPr>
                  <a:t>选修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276320" y="2488320"/>
                <a:ext cx="800640" cy="390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</a:rPr>
                  <a:t>学生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616080" y="3795840"/>
                <a:ext cx="800640" cy="390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</a:rPr>
                  <a:t>教室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587240" y="3826080"/>
                <a:ext cx="800640" cy="390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</a:rPr>
                  <a:t>管理员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330080" y="5058720"/>
                <a:ext cx="800640" cy="390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</a:rPr>
                  <a:t>教学楼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366000" y="3622680"/>
                <a:ext cx="2425320" cy="7963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</a:rPr>
                  <a:t>上课地点时间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578640" y="4932360"/>
                <a:ext cx="976680" cy="63000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</a:rPr>
                  <a:t>属于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144400" y="2413440"/>
                <a:ext cx="303120" cy="480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820920" y="2473200"/>
                <a:ext cx="302760" cy="480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970240" y="3765960"/>
                <a:ext cx="303120" cy="480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652720" y="5013360"/>
                <a:ext cx="303120" cy="480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76360" y="2686680"/>
                <a:ext cx="2286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3745800" y="2641680"/>
                <a:ext cx="355320" cy="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914360" y="2611800"/>
                <a:ext cx="3045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 flipV="1">
                <a:off x="5447880" y="2656440"/>
                <a:ext cx="203040" cy="4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6641640" y="2716560"/>
                <a:ext cx="253800" cy="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 flipV="1">
                <a:off x="4533120" y="2867040"/>
                <a:ext cx="37800" cy="76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752440" y="4024440"/>
                <a:ext cx="3045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260400" y="3994200"/>
                <a:ext cx="33012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>
                <a:off x="7060320" y="4204800"/>
                <a:ext cx="12600" cy="73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142960" y="5196960"/>
                <a:ext cx="6220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879520" y="5211720"/>
                <a:ext cx="73620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2.4 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公共类与公共页面设计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Web.config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页面设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Web.Config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文件是用来保存网站的很多全局设置 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数据库连接操作类—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Db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类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ASP.NE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中通过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ADO.NE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技术对数据库进行操作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2.4 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公共类与公共页面设计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3400" y="2052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工具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MyUtility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类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在网站的编写过程中经常会有很多公共函数调用，把它们都写在一个工具类里：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MyUtility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类，每个函数作为工具类的一个静态成员函数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登录页面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登录页面是所有用户公用的功能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u</cp:lastModifiedBy>
  <dcterms:modified xsi:type="dcterms:W3CDTF">2008-08-20T07:31:44Z</dcterms:modified>
  <cp:revision>1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